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8ED-25D3-4A6E-B5E8-6320EE69CD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34F9-7716-4427-AFB8-E9A3807B7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A26-C690-421F-BC6D-7659AEC6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290-5519-4F61-98A9-B955680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780D4-10D1-43B3-A42F-B1EE7B77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56495-A43F-4E66-9C26-F308044D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B334E-1A72-44DB-B64D-F937580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F07AF-E6F1-470D-8534-1B47DA87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34213-0E1C-4545-966A-23BE23C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E6A3E-AFD5-4884-9D6B-DF08DF1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FC69E-8855-4522-BFA9-6EDDC8E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97FEC-DE05-4532-A8DD-319D0759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64875-27CD-43A5-A820-39206448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7668A-EF2E-414C-AF2D-6BC51DF5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ACA-AB18-480E-824C-73E8DDF9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C0F7C-F344-4169-89BA-21779860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22925-3302-4DDA-A0D5-37D87133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960DE-6675-4830-968E-7F86600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8CD8D-E3DE-4BFE-8943-9B6812D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702E2-1E00-4284-970F-5D4E2A9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1412B-F99F-4825-8D42-C84B51B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14B62-DB28-4EFB-AD40-2694CB3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1B818-4F7D-45E0-AFB5-D7189128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7CA3E-B8BA-4304-AC59-2AC46ED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6F0E2-61B8-4953-B1F0-A1D2385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6E9-4E2E-4865-8147-EBA64DAA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5F8B3-5538-40F3-9DEB-099B75E9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F6FF2-A67F-45FA-A3AA-CC363202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A5466-10CE-478A-8526-E9D4F7E4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2088B-C0CB-4162-83CB-4F47C9A8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2F759-6FF6-479B-9CD4-E416302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8F2D3-FEB3-4A0D-970B-8B124C49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24A5D-815C-479A-B34F-3EE94086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B98D0-5073-4508-A612-070A4AE1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BACD-7BCD-4226-9D54-B522B09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355A9-48A7-42A7-A578-0523451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C1F2-1B4B-40AC-96DB-C2FC8F0F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07255-8AFB-4BEC-ABAC-B8C207E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068F8-2E3A-4DA9-8C35-90AA75C7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C5968-2C40-4A7C-BF6E-DA8CE112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D3C98-C37C-4CD7-92E6-6EC607A5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1FBBB-CD44-4B9F-B81C-825C0871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F6935-5CB0-42FE-A92F-2E329427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FAEE8-C8CE-405A-8F9F-5E3F1D0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7A8B9-A5E7-4B36-B7AB-01D7411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073EC-FD80-48D9-8843-827F811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42429-29B6-41E3-B56F-60CE189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19C6-421E-4998-8240-3796C07B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CEFB8-4F75-482D-85FA-7F73F6F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61E15-48B6-43B7-8934-C49801B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227D4-8472-413E-8E83-2F17877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1E076-9C1F-4292-AE34-F891E424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CD2C4-A2ED-4A1F-862E-45731DAE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906E2-9AD6-4548-B0CA-1F4C8A29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8AAA1-4D8B-4CF9-A5D4-CD31A9AA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8CDEA-43F9-4A91-A6AC-2977E31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36D0B-9ACF-4446-854F-7A653C0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07DF6-6DEE-402F-9E14-8302F29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2F6-4AA2-47AA-B7DC-464F4FC6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6CCDA-656F-4CBB-8784-B3B985B1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BE8E5-9AA1-47F7-9853-86C12AF2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5BE8C-3DDC-4242-810C-8310FEE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3A00A-1B22-4915-91DB-282A1A5D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8C602-5B13-4789-BE75-FCD4819C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2C1CC-DC3D-4BC6-91C0-60558AEE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80B11-47A6-4A2E-B9CD-88CBD239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B0273-2354-4AB0-9ACA-96F2783A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CAA69-0BF0-4BD2-8162-0796DF2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5FADD-6145-4208-BF2B-406FE8C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5B1B-7E58-48E4-850D-0ABBF7E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F1832-A058-4CEF-A5E2-147FA9B5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D1735-5C50-4692-B5AB-3A6E9E5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F3BEA-235A-4F6F-98CA-1728B8D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BB440-FA38-473C-A972-AD1A151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22098-F18C-48B8-B6D5-A11778C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1FA47-FC4A-4E0A-8AA6-960BBC7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FFF47-FA09-4260-8B8C-4AA72DED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EF732-089F-455B-B926-3D7416A9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E11D6-FB01-4AF7-A315-58FD8025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3B21D-FB73-4FCF-A188-748BA796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2BE-9DB8-4CD2-A5C2-A19EBED0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67647-D76F-4D5A-A9C4-FD1AD19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CBAED-D06E-474D-B72E-254D349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0A333-016D-4ACC-9F45-8EE26DF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48975-11EA-455E-98D0-7A3981AD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44020-157B-4E73-87B8-F4C0CBD9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A7BE1-761D-42B9-B5A0-F31717E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7BB52-715B-4DCA-92CC-22E7027A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44D67-218E-4C28-92D4-B76223A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27B54-3D3D-4A4B-8DDD-29A540F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F3D68-EB1E-451A-B6A3-AEA7A130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5249-790F-42CF-A34B-05629603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ECFC5-00AD-40B4-B9ED-EA6F4E67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92A3F-6AD7-4F92-8E82-B57EEBAC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2023E-2D20-447F-91E4-0A8DDF04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C43F4-75B0-4F1A-B599-11566692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11C62-B171-42AE-BC47-914E005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5AFA5-CFBC-4306-BAEB-D374053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5A783-D70E-42CF-B2F4-441DA4E8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FDA03-C801-404C-9B7C-A85AAD6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F0A6B-2E9C-4B57-A4FC-5646A62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FCFC9-365D-4E3B-BCFD-99D6A6E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43D6-9421-45C3-A3A1-40BD275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5CDFD-E788-4A22-86FB-7769302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C0023-FD42-4A69-92B3-ADDF080B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B2567-3E9D-42D1-9F06-D2E442C5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93903-FA8A-4DE4-9780-C5AA481F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E5441-0145-4DE8-B5CF-11005033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BF28C-D492-4370-8FD5-E19DC14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6F0A7-048D-468F-97E5-2FA7817E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329C8-F414-4A0C-9A02-93BFFEB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BC4B9-1E6C-41E7-AF9A-431EE173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BA3AC-BC66-4E5F-AEAA-DDAEC4D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14F-C73D-4DFC-987A-02A7A2F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DCE8-9A84-4388-8B80-C584CE2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54595-74A2-4695-9733-8D5F7C4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5F642-FD50-4AFC-989E-9DE874D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DC2B9-4992-4274-B3DB-8454AC82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5BD6B-BCC5-44C5-87D1-23B7783E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11155-2140-4CFC-B30E-D504BAFC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8C4-9AD0-4207-97FD-244304C5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E2B2-1BA6-4B9C-9E43-273E94CA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626-824E-4693-BDA8-6512B045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EEDC-27D2-446F-ADAD-39C22520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3A51-03C8-46BF-898B-A3DB4265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5CF2-F15D-454A-91A9-0B4A7970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9BFB-6A80-45A6-A7A1-7BE99192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77D2-F341-445F-9275-42B9F8D5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9EA7-994A-464D-AB1B-5B20409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01F-CD62-428E-A96C-DFAFF0BA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9093-C1DD-4DDC-9BC7-44F9FD06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02BA-6C4D-46C6-9521-C659DF7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B931-D5F8-45D2-84DF-8CA50C3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8C0E-1EC3-4564-908C-0A176CE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91BE-6C20-441D-AABD-9D8E6B57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1A43-0FCF-4740-917F-871F39EE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516F-BA19-4041-95CD-76B82611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55810-2F68-4956-A7F9-B94BEE78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939FD-778B-4A0F-AF0F-050ACD1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DCDA-76C9-44DC-97BB-9DBC6DD1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FA4-F3A4-4DAD-BD42-74B4846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5233-51F0-498F-87BD-C67258E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C073-E467-41BC-9285-046C75DA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39A1-05D5-4380-8B5C-A320FBF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DAA24-D129-490B-95D6-30A8D1B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CA73-126D-4C53-A2FD-0AFC4434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88F1-20C6-42B5-81C1-A369237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0908-15C8-44E5-97BF-C311016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E1A0-3A9E-4F71-A9D9-EC0811D0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B68C-636E-4E23-B85F-A566A8A5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69EB-95FC-424C-85BB-243AF778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163-A48F-465F-87DA-0EC79563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128CA-B39E-4DF2-9B6C-CB34F93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88418-789E-48AD-8D00-303A6F4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B522-6F80-4E28-9656-9CED483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0EC6B-0550-4726-AB17-01D7451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2B8B-FC39-46F0-87D0-25D00F25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261AB-5D5F-4434-BF51-5E41F357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4F4F-FCCE-400F-955A-C2070B2E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6405B-4B29-43F5-9D13-FB89848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C4515-94C0-4BC8-95B1-07804B34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80385-AD7E-49C9-996D-8DD87C14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885-7C1A-4EDE-A3EA-138A6049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FB4C-0C17-4825-9A56-A2ABC0F7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44B8-D560-4F19-8C0F-98019E89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C2FE-D9E9-4FF5-A4FD-DDF8F64B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65F0-C153-460F-80AE-B32C9FDF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37856-EF19-4BE9-8263-A444F8C4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45E8-E386-4CDF-88CA-18FF9A62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72F6-EF3B-4F08-B42A-4906057E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8352-1FB7-46D9-A722-4F6EC26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4F80-8217-42F9-BA56-F1315B5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A832-403E-4A67-81D8-0529405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9F4-2997-4557-AEEC-E78496AE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E8D74-F2B9-476C-AB77-F648918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A857-62C8-4A30-BE01-725D34C0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1732-CF10-4010-A4E1-3CE5D445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CD76-654E-4DE4-A6AF-7F5083ED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19A8-40BC-4089-A3F7-3BD53A2B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B1B6-5B46-410E-AF32-9E14781C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7623-07A3-485E-B319-FCDF5A68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E97E-AE81-46B2-85A8-1A632B5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C822-61F7-43B2-8B95-3502E32B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4E94C-FCA7-4178-9DB7-93857E5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621-DEA6-4EC0-AEA5-220C5EA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C6863-2F7B-47EA-BE96-576679F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FC52-3D69-482A-887A-A883CE3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99C1-25EB-4059-A703-5AE340E2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9564-7748-4F6B-8CBD-8E1F7F49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58F11-B27F-4311-81DE-62B7098F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DD9A-B869-451D-B5F9-2211500C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F4733-AD54-4799-9623-CDA76903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D0CD2-2C11-4DDE-925E-D1C91FAF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35496-847D-4735-B750-33425253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D2E31-0147-4C5C-A128-C830444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6F4-999D-4C57-B1F0-56AB276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C198-7260-416C-B15D-F7112B1C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99B0-B563-4408-B141-24E3D68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E41A-9395-4099-8749-55F29B4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6684C-2453-41A7-8D30-051E46B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EFFA-DC98-48A9-9CC2-431F4ED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A588-CE63-43E2-A009-3E6C54D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C5017-DE5F-495F-BD61-77183BC8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4EE7F-5BC9-432C-BFCC-230B45FB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FAE95-54AC-4102-8528-D4622F08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90C20-EC75-4159-905C-B6333F2C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CFB9-35C1-4CAC-9BAE-8DEF6B9F5D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4418-5E9D-4EDF-87BD-45347C5669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6AF-BF71-4329-8930-E801F59E56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8A6-0BCD-48D7-A09D-D58F0ED048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540-44BF-43C9-8C02-F8DBB59528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C59-C416-4F20-B2E0-79BDF6F1E3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E22-D5D7-4E97-9260-60D9E78BC7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5B3-7346-467A-9890-ECEB413A02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3E3-EB8D-48E1-9D95-0FC6C75FF6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1289-9474-4404-AF3E-DFD22FDD20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C1FF-19C2-455D-BA70-EAD28B8206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064D-217D-4848-849F-BB5FF80125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982-C47E-446B-8F18-7D14FEF6CB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6B1F-1C65-462B-B2E7-4B1B0E5959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62CF-ED35-468D-BEA6-F2E018316B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E06E-6162-42C8-9D48-F9714CEA53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FA8-9F73-47C2-A363-F55FF424A07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лассный час на тему: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50920" y="1557000"/>
            <a:ext cx="7386480" cy="4497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3eac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fb4a18"/>
                </a:solidFill>
                <a:latin typeface="comic"/>
              </a:rPr>
              <a:t>«МИЛОСЕРДИЕ-  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fb4a18"/>
                </a:solidFill>
                <a:latin typeface="comic"/>
              </a:rPr>
              <a:t>             </a:t>
            </a:r>
            <a:r>
              <a:rPr b="1" i="1" lang="ru-RU" sz="4800" spc="-1" strike="noStrike">
                <a:solidFill>
                  <a:srgbClr val="fb4a18"/>
                </a:solidFill>
                <a:latin typeface="comic"/>
              </a:rPr>
              <a:t>зеркало души»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5" descr="j0284916"/>
          <p:cNvPicPr/>
          <p:nvPr/>
        </p:nvPicPr>
        <p:blipFill>
          <a:blip r:embed="rId1"/>
          <a:stretch/>
        </p:blipFill>
        <p:spPr>
          <a:xfrm>
            <a:off x="2124000" y="357336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страдание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жалость, сочувствие вызванное чьим-то несчастьем, горе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0" name="Picture 4" descr="0_43ab8_46716e1a_XL"/>
          <p:cNvPicPr/>
          <p:nvPr/>
        </p:nvPicPr>
        <p:blipFill>
          <a:blip r:embed="rId1"/>
          <a:stretch/>
        </p:blipFill>
        <p:spPr>
          <a:xfrm>
            <a:off x="1258920" y="3141720"/>
            <a:ext cx="5033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брота -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зывчивость, душевное расположение, к людям, стремление делать добро други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3" name="Picture 5" descr="0_20726_1b2f0716_XL"/>
          <p:cNvPicPr/>
          <p:nvPr/>
        </p:nvPicPr>
        <p:blipFill>
          <a:blip r:embed="rId1"/>
          <a:stretch/>
        </p:blipFill>
        <p:spPr>
          <a:xfrm>
            <a:off x="1763640" y="3346560"/>
            <a:ext cx="439416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важение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чтительное отношение, основанное на признании чьих нибудь достоинст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6" name="Picture 7" descr="0_209b1_6b5098f2_-1-XL"/>
          <p:cNvPicPr/>
          <p:nvPr/>
        </p:nvPicPr>
        <p:blipFill>
          <a:blip r:embed="rId1"/>
          <a:stretch/>
        </p:blipFill>
        <p:spPr>
          <a:xfrm>
            <a:off x="1403280" y="3357720"/>
            <a:ext cx="4770360" cy="3179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Гуманность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 латинского слова </a:t>
            </a:r>
            <a:r>
              <a:rPr b="0" i="1" lang="en-US" sz="1800" spc="-1" strike="noStrike">
                <a:solidFill>
                  <a:srgbClr val="404040"/>
                </a:solidFill>
                <a:latin typeface="Century Gothic"/>
              </a:rPr>
              <a:t>humanu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ловечный. Проявление сочувствия к людям, оказание помощи, не причинение страда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9" name="Picture 4" descr="0_451c_e53c1bd1_XL"/>
          <p:cNvPicPr/>
          <p:nvPr/>
        </p:nvPicPr>
        <p:blipFill>
          <a:blip r:embed="rId1"/>
          <a:stretch/>
        </p:blipFill>
        <p:spPr>
          <a:xfrm>
            <a:off x="1692360" y="3716280"/>
            <a:ext cx="2016000" cy="27370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5" descr="0_35e37_c0bb029a_L"/>
          <p:cNvPicPr/>
          <p:nvPr/>
        </p:nvPicPr>
        <p:blipFill>
          <a:blip r:embed="rId2"/>
          <a:stretch/>
        </p:blipFill>
        <p:spPr>
          <a:xfrm>
            <a:off x="4500720" y="3716280"/>
            <a:ext cx="19429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Человеколюбие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любовь к людям, гуманнос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3" name="Picture 5" descr="0_4dc47_70517852_XL"/>
          <p:cNvPicPr/>
          <p:nvPr/>
        </p:nvPicPr>
        <p:blipFill>
          <a:blip r:embed="rId1"/>
          <a:stretch/>
        </p:blipFill>
        <p:spPr>
          <a:xfrm>
            <a:off x="2093760" y="2565360"/>
            <a:ext cx="32688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Альтруизм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товность бескорыстно действовать на пользу другим, не считаясь со своими интерес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6" name="Picture 4" descr="0_2f08e_301f056a_XL"/>
          <p:cNvPicPr/>
          <p:nvPr/>
        </p:nvPicPr>
        <p:blipFill>
          <a:blip r:embed="rId1"/>
          <a:stretch/>
        </p:blipFill>
        <p:spPr>
          <a:xfrm>
            <a:off x="900000" y="3500280"/>
            <a:ext cx="2159280" cy="271008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5" descr="nani5c5v"/>
          <p:cNvPicPr/>
          <p:nvPr/>
        </p:nvPicPr>
        <p:blipFill>
          <a:blip r:embed="rId2"/>
          <a:stretch/>
        </p:blipFill>
        <p:spPr>
          <a:xfrm>
            <a:off x="3419640" y="3548160"/>
            <a:ext cx="402876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457680" cy="583560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1520" y="333000"/>
            <a:ext cx="747720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b4a18"/>
                </a:solidFill>
                <a:latin typeface="Century Gothic"/>
              </a:rPr>
              <a:t>ТВОРИ ДОБР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в) Твори добро с NeverGiveUp ! 1111.mp4" descr=""/>
          <p:cNvPicPr/>
          <p:nvPr/>
        </p:nvPicPr>
        <p:blipFill>
          <a:blip r:embed="rId2"/>
          <a:stretch/>
        </p:blipFill>
        <p:spPr>
          <a:xfrm>
            <a:off x="981000" y="1554120"/>
            <a:ext cx="5718240" cy="4292640"/>
          </a:xfrm>
          <a:prstGeom prst="rect">
            <a:avLst/>
          </a:prstGeom>
          <a:ln w="0">
            <a:noFill/>
          </a:ln>
        </p:spPr>
      </p:pic>
      <p:pic>
        <p:nvPicPr>
          <p:cNvPr id="1189" name="в) Твори добро с NeverGiveUp ! 1111.mp4" descr=""/>
          <p:cNvPicPr/>
          <p:nvPr/>
        </p:nvPicPr>
        <p:blipFill>
          <a:blip r:embed="rId3"/>
          <a:stretch/>
        </p:blipFill>
        <p:spPr>
          <a:xfrm>
            <a:off x="611280" y="857160"/>
            <a:ext cx="813744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Подготовительный этап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е одежда красит человека, а его добрые дел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Торопись на доброе дело, а худое само приспе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лой плачет от зависти, а добрый - от радос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обрые слова дороже богатств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Кто добро творит, тому Бог плати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01.mp3" descr=""/>
          <p:cNvPicPr/>
          <p:nvPr/>
        </p:nvPicPr>
        <p:blipFill>
          <a:blip r:embed="rId1"/>
          <a:stretch/>
        </p:blipFill>
        <p:spPr>
          <a:xfrm>
            <a:off x="658800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9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19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71366" fill="hold"/>
                                        <p:tgtEl>
                                          <p:spTgt spid="1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b4a18"/>
                </a:solidFill>
                <a:latin typeface="comic"/>
              </a:rPr>
              <a:t>МИЛОСЕРДИ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24000" y="270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готовность помочь кому-нибудь, простить кого-нибудь, человеколюбие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Сергей Ожегов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2340000" y="333360"/>
            <a:ext cx="316872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4a18"/>
                </a:solidFill>
                <a:latin typeface="Arial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7"/>
          <p:cNvSpPr/>
          <p:nvPr/>
        </p:nvSpPr>
        <p:spPr>
          <a:xfrm>
            <a:off x="5076720" y="1773360"/>
            <a:ext cx="2448000" cy="79200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1" action="ppaction://hlinksldjump"/>
              </a:rPr>
              <a:t>Альтру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38"/>
          <p:cNvSpPr/>
          <p:nvPr/>
        </p:nvSpPr>
        <p:spPr>
          <a:xfrm>
            <a:off x="4643280" y="3213000"/>
            <a:ext cx="266400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2" action="ppaction://hlinksldjump"/>
              </a:rPr>
              <a:t>Человеколюб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9">
            <a:hlinkClick r:id="rId3" action="ppaction://hlinksldjump"/>
          </p:cNvPr>
          <p:cNvSpPr/>
          <p:nvPr/>
        </p:nvSpPr>
        <p:spPr>
          <a:xfrm>
            <a:off x="250920" y="1773360"/>
            <a:ext cx="252072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4" action="ppaction://hlinksldjump"/>
              </a:rPr>
              <a:t>Сострадание</a:t>
            </a: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40"/>
          <p:cNvSpPr/>
          <p:nvPr/>
        </p:nvSpPr>
        <p:spPr>
          <a:xfrm>
            <a:off x="468360" y="3284640"/>
            <a:ext cx="2521080" cy="86364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4a18"/>
                </a:solidFill>
                <a:uFillTx/>
                <a:latin typeface="Arial"/>
              </a:rPr>
              <a:t>Доброта</a:t>
            </a:r>
            <a:r>
              <a:rPr b="0" lang="ru-RU" sz="2400" spc="-1" strike="noStrike" u="sng">
                <a:solidFill>
                  <a:srgbClr val="766f54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41"/>
          <p:cNvSpPr/>
          <p:nvPr/>
        </p:nvSpPr>
        <p:spPr>
          <a:xfrm>
            <a:off x="971640" y="4941720"/>
            <a:ext cx="2448000" cy="79236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66f54"/>
                </a:solidFill>
                <a:uFillTx/>
                <a:latin typeface="Arial"/>
              </a:rPr>
              <a:t>Ува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48"/>
          <p:cNvSpPr/>
          <p:nvPr/>
        </p:nvSpPr>
        <p:spPr>
          <a:xfrm>
            <a:off x="4211640" y="4941720"/>
            <a:ext cx="2664000" cy="79236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b4a18"/>
                </a:solidFill>
                <a:latin typeface="Arial"/>
              </a:rPr>
              <a:t>Гума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52"/>
          <p:cNvSpPr/>
          <p:nvPr/>
        </p:nvSpPr>
        <p:spPr>
          <a:xfrm>
            <a:off x="3924360" y="1413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53"/>
          <p:cNvSpPr/>
          <p:nvPr/>
        </p:nvSpPr>
        <p:spPr>
          <a:xfrm flipH="1">
            <a:off x="2842920" y="1341360"/>
            <a:ext cx="1081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54"/>
          <p:cNvSpPr/>
          <p:nvPr/>
        </p:nvSpPr>
        <p:spPr>
          <a:xfrm flipH="1">
            <a:off x="2555640" y="1413000"/>
            <a:ext cx="1368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55"/>
          <p:cNvSpPr/>
          <p:nvPr/>
        </p:nvSpPr>
        <p:spPr>
          <a:xfrm>
            <a:off x="3924360" y="1484280"/>
            <a:ext cx="1224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56"/>
          <p:cNvSpPr/>
          <p:nvPr/>
        </p:nvSpPr>
        <p:spPr>
          <a:xfrm flipH="1">
            <a:off x="2916000" y="1413000"/>
            <a:ext cx="93492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8"/>
          <p:cNvSpPr/>
          <p:nvPr/>
        </p:nvSpPr>
        <p:spPr>
          <a:xfrm>
            <a:off x="3851280" y="1341360"/>
            <a:ext cx="792000" cy="33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59"/>
          <p:cNvSpPr/>
          <p:nvPr/>
        </p:nvSpPr>
        <p:spPr>
          <a:xfrm>
            <a:off x="3564000" y="1197000"/>
            <a:ext cx="647640" cy="503280"/>
          </a:xfrm>
          <a:prstGeom prst="ellipse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рточка № 1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ы все природой пробуждаемся к милосердию, и нет в нашей природе другого столь доброго свойства. </a:t>
            </a: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Милосерд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происходит от любви. Если мы не имеем милосердия и сострадания, мы не имеем ничего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святитель Иоанн Златоуст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1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рточка № 2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Милосерд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есть пристань для нуждающихся, а пристань принимает всех потерпевших кораблекрушение и спасает от опасностей, злые они или добры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митрополит Филарет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68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68" fill="hold"/>
                                        <p:tgtEl>
                                          <p:spTgt spid="1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арточка № 3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fb4a18"/>
                </a:solidFill>
                <a:latin typeface="Century Gothic"/>
              </a:rPr>
              <a:t>Милосерд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это любовь, которая взаимности не требует, возможна ко всем людям, в этом ее богатство и сил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Н. Бердяев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68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68" fill="hold"/>
                                        <p:tgtEl>
                                          <p:spTgt spid="1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68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2" fill="hold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2" fill="hold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2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6" name=""/>
          <p:cNvGraphicFramePr/>
          <p:nvPr/>
        </p:nvGraphicFramePr>
        <p:xfrm>
          <a:off x="900000" y="907920"/>
          <a:ext cx="6096240" cy="37036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70160"/>
                <a:gridCol w="468000"/>
                <a:gridCol w="468360"/>
                <a:gridCol w="427320"/>
                <a:gridCol w="510840"/>
                <a:gridCol w="468360"/>
                <a:gridCol w="470160"/>
                <a:gridCol w="468360"/>
                <a:gridCol w="469800"/>
                <a:gridCol w="4683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2771640" y="907920"/>
          <a:ext cx="2345040" cy="371520"/>
        </p:xfrm>
        <a:graphic>
          <a:graphicData uri="http://schemas.openxmlformats.org/drawingml/2006/table">
            <a:tbl>
              <a:tblPr/>
              <a:tblGrid>
                <a:gridCol w="468360"/>
                <a:gridCol w="470160"/>
                <a:gridCol w="426960"/>
                <a:gridCol w="5112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3276720" y="1268280"/>
          <a:ext cx="2342880" cy="366840"/>
        </p:xfrm>
        <a:graphic>
          <a:graphicData uri="http://schemas.openxmlformats.org/drawingml/2006/table">
            <a:tbl>
              <a:tblPr/>
              <a:tblGrid>
                <a:gridCol w="468360"/>
                <a:gridCol w="426960"/>
                <a:gridCol w="511200"/>
                <a:gridCol w="468360"/>
                <a:gridCol w="46800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9" name=""/>
          <p:cNvGraphicFramePr/>
          <p:nvPr/>
        </p:nvGraphicFramePr>
        <p:xfrm>
          <a:off x="3747960" y="1628640"/>
          <a:ext cx="2813040" cy="371520"/>
        </p:xfrm>
        <a:graphic>
          <a:graphicData uri="http://schemas.openxmlformats.org/drawingml/2006/table">
            <a:tbl>
              <a:tblPr/>
              <a:tblGrid>
                <a:gridCol w="427320"/>
                <a:gridCol w="511200"/>
                <a:gridCol w="468000"/>
                <a:gridCol w="468360"/>
                <a:gridCol w="470160"/>
                <a:gridCol w="468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0" name=""/>
          <p:cNvGraphicFramePr/>
          <p:nvPr/>
        </p:nvGraphicFramePr>
        <p:xfrm>
          <a:off x="2341440" y="1989000"/>
          <a:ext cx="2813040" cy="3700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27320"/>
                <a:gridCol w="511200"/>
                <a:gridCol w="468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3747960" y="2421000"/>
          <a:ext cx="3281400" cy="371520"/>
        </p:xfrm>
        <a:graphic>
          <a:graphicData uri="http://schemas.openxmlformats.org/drawingml/2006/table">
            <a:tbl>
              <a:tblPr/>
              <a:tblGrid>
                <a:gridCol w="427320"/>
                <a:gridCol w="511200"/>
                <a:gridCol w="468000"/>
                <a:gridCol w="468360"/>
                <a:gridCol w="468360"/>
                <a:gridCol w="4698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2" name=""/>
          <p:cNvGraphicFramePr/>
          <p:nvPr/>
        </p:nvGraphicFramePr>
        <p:xfrm>
          <a:off x="1835280" y="2781360"/>
          <a:ext cx="3751200" cy="36972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25520"/>
                <a:gridCol w="511200"/>
                <a:gridCol w="469800"/>
                <a:gridCol w="4683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3" name=""/>
          <p:cNvGraphicFramePr/>
          <p:nvPr/>
        </p:nvGraphicFramePr>
        <p:xfrm>
          <a:off x="1827360" y="3141720"/>
          <a:ext cx="5157720" cy="369720"/>
        </p:xfrm>
        <a:graphic>
          <a:graphicData uri="http://schemas.openxmlformats.org/drawingml/2006/table">
            <a:tbl>
              <a:tblPr/>
              <a:tblGrid>
                <a:gridCol w="468000"/>
                <a:gridCol w="470160"/>
                <a:gridCol w="468360"/>
                <a:gridCol w="468000"/>
                <a:gridCol w="427320"/>
                <a:gridCol w="511200"/>
                <a:gridCol w="469800"/>
                <a:gridCol w="468360"/>
                <a:gridCol w="468360"/>
                <a:gridCol w="469800"/>
                <a:gridCol w="4683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4" name=""/>
          <p:cNvGraphicFramePr/>
          <p:nvPr/>
        </p:nvGraphicFramePr>
        <p:xfrm>
          <a:off x="3722760" y="3500280"/>
          <a:ext cx="3282840" cy="371520"/>
        </p:xfrm>
        <a:graphic>
          <a:graphicData uri="http://schemas.openxmlformats.org/drawingml/2006/table">
            <a:tbl>
              <a:tblPr/>
              <a:tblGrid>
                <a:gridCol w="426960"/>
                <a:gridCol w="511200"/>
                <a:gridCol w="468360"/>
                <a:gridCol w="469800"/>
                <a:gridCol w="468360"/>
                <a:gridCol w="4698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5" name=""/>
          <p:cNvGraphicFramePr/>
          <p:nvPr/>
        </p:nvGraphicFramePr>
        <p:xfrm>
          <a:off x="1332000" y="3860640"/>
          <a:ext cx="3282840" cy="37152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26960"/>
                <a:gridCol w="5112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6" name=""/>
          <p:cNvGraphicFramePr/>
          <p:nvPr/>
        </p:nvGraphicFramePr>
        <p:xfrm>
          <a:off x="3203640" y="4221000"/>
          <a:ext cx="2813040" cy="371520"/>
        </p:xfrm>
        <a:graphic>
          <a:graphicData uri="http://schemas.openxmlformats.org/drawingml/2006/table">
            <a:tbl>
              <a:tblPr/>
              <a:tblGrid>
                <a:gridCol w="468360"/>
                <a:gridCol w="426960"/>
                <a:gridCol w="511200"/>
                <a:gridCol w="468360"/>
                <a:gridCol w="469800"/>
                <a:gridCol w="468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7" name=""/>
          <p:cNvGraphicFramePr/>
          <p:nvPr/>
        </p:nvGraphicFramePr>
        <p:xfrm>
          <a:off x="9828360" y="981000"/>
          <a:ext cx="426960" cy="3703680"/>
        </p:xfrm>
        <a:graphic>
          <a:graphicData uri="http://schemas.openxmlformats.org/drawingml/2006/table">
            <a:tbl>
              <a:tblPr/>
              <a:tblGrid>
                <a:gridCol w="426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Century Gothic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7:05:13Z</dcterms:created>
  <dc:creator>Admin</dc:creator>
  <dc:description/>
  <dc:language>en-US</dc:language>
  <cp:lastModifiedBy>Пользователь Windows</cp:lastModifiedBy>
  <dcterms:modified xsi:type="dcterms:W3CDTF">2022-03-09T06:06:40Z</dcterms:modified>
  <cp:revision>99</cp:revision>
  <dc:subject/>
  <dc:title>МОУ СОШ № 2 г Домодедово</dc:title>
</cp:coreProperties>
</file>